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672-75AC-4F38-B669-AB6FB9F3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841-EF8B-4923-BC2C-9DCA7FCA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F6CA8-583C-4288-8930-86E360FD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8A217-2C8E-48E7-9CD0-258BD277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BB3D1-B67E-4A8C-B63A-32591372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8AFC1-9704-4E33-A8E0-700522E1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6CF49-7C0F-472D-92A3-A947C624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D2B0A-B30F-44C1-BABE-375FEB85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D0DD7-A789-4733-9F42-09168AF7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17D36-3BB5-4CDA-8B19-43A95A87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1AC4C-CD79-48F3-9E8D-C121D28B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E0FAA-2D0E-43DA-BDA2-08AB1EEC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FCC-4450-4D1F-B153-9EBCB4CB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F1D1B-5C34-4B85-8C46-BCE1FE59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9141D-9248-4084-826F-DCADD6AB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73377-D69B-414A-8ABF-47580D80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07AE5-2F8C-4B88-840D-686F25B1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4FB11-AE00-4F7D-9543-DD25873C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B9938-041C-4863-AF2D-4B560CD6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8ED92-8D95-444B-96AD-39F037A5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8E623-692F-44FD-BEFC-BD81E6B7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E07CC-FE45-4BB5-8456-1BD6F8A9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2D0A0-005E-411D-8A5A-ED7A2E80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05D-4482-4A8E-AC8F-90C5C873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020DD-CC26-4798-8670-0221856A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771AF-4660-4E0C-97A7-91AC8477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D24E9-F112-405C-A519-23AD23A4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81A4F-2AD2-40E5-BC56-8E2C4BF0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B02F8-63D6-4B2D-B334-7559471B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C6254-1A80-48E4-AF0F-079F8063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A3C76-AEEE-4260-9404-AAF74F87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C13BC-315C-4FB6-8907-216068FC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24ACD-810D-4D4E-A7AC-FFF68B3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8F815-1B32-4D63-A061-00508ADC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325E-5E8C-4908-8911-F3E519DD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50C76-F422-44BF-9056-7F4F8A7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1F933-5A66-4E09-ADC5-C093ACC5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32784-9D9A-4FFD-B4A6-95333074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5631D-CDE1-4B8F-88F9-CB0175FC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0460C-5FAC-4EB9-85EB-A1FE3DD7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15720-4D0D-443A-9A9C-6DC12966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F703A-331B-4A28-9C68-FF631DC3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4E5B0-6D8D-4B0E-9D5D-F9BC004E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AF388-76BF-40AF-8AA7-F4494E54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E7394-B3B9-43C7-B126-8A4F5327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DE10-9138-45A3-A38D-49C6389A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82428-E25D-4400-833B-B3DE8458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8D0A9-8269-45BB-A9A2-3D6E1A5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BF9A6-D112-4DFF-8F81-655A79C5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06215-DDE0-4BD1-8E29-A1101D99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CA13A-E7AA-4F79-884E-4C9DB660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7DA8-5F78-4A66-9661-880B194F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8E13-C533-49C3-9FC7-3A18DC0F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58F3-751B-453E-974A-D9B917EF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B4BC-1C7B-48EF-939D-B064F4F3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0CB7-31BE-4398-8BB3-7A00BD9B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4FD-1225-48C8-8B38-36B9BE10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75B8-F68C-4D60-89FD-2D281567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3B9D-383D-4266-80FD-EDB79683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AEC5-FA93-4938-801C-2E193A88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6B3F-8CA3-48DE-9AE1-08B2E8DB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B34D-1146-462B-863B-DFD02BDA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121FB-BF72-4893-B13C-C6A2EE1B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3C872-7E91-4E1E-8992-6F92278A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324C9-9476-4878-AE0E-7C0BEC77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4CEF4-9FC0-4E0B-9BA9-920287E3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5E556-632C-46FA-84E9-CD552CC7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A4A-FF44-431A-94A8-688418F6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96893-DAEB-4B39-A991-C5A542F3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4029F-6552-46BF-BFAF-8DB36886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33D87-9C58-4755-A8AF-E4DD5F28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2E5D1-9199-4967-86F7-CEC21ABC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F10DD-3E73-4B39-9106-88C53F06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17DF1-F182-4F6B-8238-1A456517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EC941-DBDA-4018-A62F-A1C2E5AA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C71F8-6C08-42B4-BFF4-DE9FF4A5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3E69-506C-4CBB-8DB5-C6A6AD45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51992-0269-4322-A524-4808F63D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5E8-487A-4BAC-92D3-7D50704B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08CF-0CF6-48D5-B04F-64EDAB35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AD095-56D4-439F-A667-466F485E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99CF-BE54-4B54-8201-3E8845AF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8B50C-86A7-4121-BBEB-742F463E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AF780-A229-4791-A4A5-0D7EA009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A7A16-7129-49BD-8F62-1BC4C07D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B5B84-FD95-4864-ABF3-81064C43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9C302-86CF-43AA-AC76-EB0AB7CA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D7AA-6678-45A7-BD82-7D381634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B8E5A-FA2A-4929-9861-36B8A95D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190-7D0F-4F0A-8912-F199076E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D8DAB-9725-40D2-ADF3-658C056E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3FB1C-FD06-4F4A-87EC-DB2A9C79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FE107-4FA5-43CF-B491-DCE5370B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3C24-A4FA-401B-9DE0-37CCA622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F038B-CF7E-487C-8FBB-03E16FD8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47954-8C8F-4C1C-A097-6F58B6C1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DA01A-81DB-42DB-9E3A-E3DA9221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EC31B-66D0-46EE-A7D5-64F34F1D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E355C-F49F-4EB8-BC6D-0A1C20C5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051EF-6C89-4E83-97EB-1D9A6DF6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F93-15A4-4DC3-8ECA-35F5E32B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DDC75-92E2-4548-BB72-30425EF6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BC322-BD52-4EF6-99F2-F36E793E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C3B4B-1965-4662-8CCF-EACB4098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037A4-BF55-4343-9B23-95A4472E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369C4-292F-462B-AA1A-71B50F6F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94FE2-7C70-420A-BAC2-2D654932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C49A-69C5-4F94-A6F4-B1DBF958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D0069-D93C-4B83-BA78-AC0C848B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9C643-F808-4B39-BD60-0DFD8641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2EB70-B78C-4C0C-A8B7-7E9E6C82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728-9E84-4FAC-AC23-14A66A42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425F0-4409-4FFF-B3C5-57E903FC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09722-4F3C-46E3-80BD-60ADACBE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8AE3E-BF61-414D-9FC1-D4FF77A4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5BA67-DE3C-4686-8C50-D2A4F9AE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E86FE-EFB0-4135-B562-41E59B40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1EAE7-A8A9-4939-A8EE-EB560406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08819-5D3B-47B0-B108-640993A7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01E57-4F5F-458F-B163-5F205EA3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73521-F300-459D-BE6B-3553ACE3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A0056-14F7-44FA-8255-B0270778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E8F-2045-4939-BD5D-D9675760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B50CE-E0F6-4EA9-987F-BDBC4C9F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8CB27-A539-45F3-858B-0FC069DB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656DC-39F3-4133-A964-836B3501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90712-6B67-4AEF-949F-6C5DBF39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CB595-58FB-4103-A0E9-BB0F5AE3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623B5-EDF1-4887-81E7-95093F51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E6102-617E-4851-96D1-98815393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D600E-030A-4A9D-A25B-36A3ECF4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A5911-4265-4441-A694-60BE612A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ADA53-5E52-41FD-9139-24582230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DCC-8023-49FD-8184-AB62BC02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1A38D-1227-403F-8A03-56088DAE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1CFC5-DC69-4632-852F-7E3CC4DF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385DB-1965-43C8-9836-1682F229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DB7DF-89DB-4BCF-933C-168F7D59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604FB-D2DA-4EE8-B513-86FDB92A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0B7ED-9C8F-44A0-BCFF-D0256716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3135B-75EF-44EF-A0C4-5D7FE1AF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7B250-A139-4BF8-950F-7A3BD5E7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29C94-D10C-42BB-84BA-619513A7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78ABE-B012-4A2D-A51B-A709219D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0FEB-49A6-402C-9A0B-77E5147D5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7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15E8-665E-4D12-AE47-1157585E0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2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0113-FD81-4F89-B65B-AC51DB3D46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6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8262-920D-47FE-874F-82684D7850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E827-8ACA-429F-80AD-E76F7D27B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4368-9E64-407A-A71F-817EE07C13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2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C625-3F28-4B18-A106-6438FCB3D0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8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3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3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6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8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6F06-F1CF-4A98-9D33-03A70F361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4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5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7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9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5BD0-02CC-4945-AE5D-16D435BB3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9638-947F-458F-B6C8-4AF53F106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B5EB-7A28-4799-81AA-DC85180D6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2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47E9-0918-47F7-84CA-A1235CC76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Times New Roman"/>
              </a:rPr>
              <a:t>исследование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качества хлеб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Хлеб «Беляевский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Результат исследования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Кислотность -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14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Влажность   -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4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Норма гос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Кислотность -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º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Влажность   -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47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1676520" y="27525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11 исследуемых объектов завыше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ажность у всех(подовый на 2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 отрубями на 25).Вес и ц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слотность у Беляевского и зернового( в 2 раза).(нарушение работы желудочно – кишечного тракт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коменда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 информирования  люд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л плакат, по итогам исследований и вывесил в холле школы и  подъезде собственного до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большие листовки такого же содержания, можно распространять на улицах 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тупить перед ребятами на линейке и родителями на классном собра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Цель работы: определение качества хлеб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определить влажность в хлебе и хлебобулочных изделиях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определить кислотность в хлебе и хлебобулочных издели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хлебопечение положило начало цивилизации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чало хлебного производства надо искать в том периоде истории, когда человек бросил кочевую жизнь и начал оседлую, вместе с которой началась культура челове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сырь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55640" y="1916640"/>
            <a:ext cx="2808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снов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у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рожж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116240" y="1959480"/>
            <a:ext cx="47023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ополнитель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ло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й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харосодержащие проду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л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я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нность хлеба определяется качественным составом минеральных элементов – фосфора, кальция железа.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итательность хлеба составляет от 200 до 250 килокалорий на 100 граммов. Значит, съедая в день 400-420 граммов хлеба, мы тем самым получаем примерно 1/3 нужных нам калор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7ff"/>
                </a:solidFill>
                <a:latin typeface="Arial"/>
              </a:rPr>
              <a:t>Нормы госта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ислот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шеничный 9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-6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шеничный 85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-4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жаной - 1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лаж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шеничный 9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- 47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шеничный 85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- 45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жаной - 50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ислотность хлеб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457200" y="1600200"/>
          <a:ext cx="8229600" cy="4979880"/>
        </p:xfrm>
        <a:graphic>
          <a:graphicData uri="http://schemas.openxmlformats.org/drawingml/2006/table">
            <a:tbl>
              <a:tblPr/>
              <a:tblGrid>
                <a:gridCol w="3706920"/>
                <a:gridCol w="2260440"/>
                <a:gridCol w="226224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исл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Беляев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елеб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Зернов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 отруб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атон «фантаз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тла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атон двухцв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мел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ородинск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арницк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дов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 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Влажность хлеб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3706920"/>
                <a:gridCol w="2314440"/>
                <a:gridCol w="2208240"/>
              </a:tblGrid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ж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яев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б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в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отруб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тон «фантаз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ла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тон двухц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мел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родинск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ницк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дов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Хлеб «Бородинский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Результат исследования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Кислотность - 12 º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Влажность   -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66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Норма гос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Кислотность - 12 º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Влажность   -  50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257800" y="27525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4:22:18Z</dcterms:created>
  <dc:creator>Noname</dc:creator>
  <dc:description/>
  <dc:language>en-US</dc:language>
  <cp:lastModifiedBy>Noname</cp:lastModifiedBy>
  <dcterms:modified xsi:type="dcterms:W3CDTF">2009-02-18T13:56:53Z</dcterms:modified>
  <cp:revision>10</cp:revision>
  <dc:subject/>
  <dc:title>исследование</dc:title>
</cp:coreProperties>
</file>